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user/BRAZILIANEARTH" TargetMode="External"/><Relationship Id="rId3" Type="http://schemas.openxmlformats.org/officeDocument/2006/relationships/hyperlink" Target="https://www.facebook.com/brazilianearthinstitute" TargetMode="External"/><Relationship Id="rId4" Type="http://schemas.openxmlformats.org/officeDocument/2006/relationships/hyperlink" Target="https://www.facebook.com/brazilianearthinstitute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8384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</a:rPr>
              <a:t>LIÇÃO 2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90080"/>
            <a:ext cx="10464840" cy="83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Bem-Vindos às aulas de portuguê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"/>
          <p:cNvSpPr/>
          <p:nvPr/>
        </p:nvSpPr>
        <p:spPr>
          <a:xfrm>
            <a:off x="698400" y="1504800"/>
            <a:ext cx="918216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Datas Importantes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Sept. 3 - First class day (Introduction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Oct. 29 - Test Review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Nov. 5 - Last class day (Individual Presentation “My Job”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Nov. 12 - Practice dinner class at Brazilian restaurant to be chosen lat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"/>
          <p:cNvSpPr/>
          <p:nvPr/>
        </p:nvSpPr>
        <p:spPr>
          <a:xfrm>
            <a:off x="709560" y="4692600"/>
            <a:ext cx="108079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Conecte-se com a cultura brasileira e com a língua portugues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2"/>
              </a:rPr>
              <a:t>YouTub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Faceboo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3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4"/>
              </a:rPr>
              <a:t>Meetu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halkboard"/>
                <a:ea typeface="Chalkboard"/>
              </a:rPr>
              <a:t> - Brazilian Culture and Language in Westchest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Portal Brazil Newsletter - subscription @ portalbrazil@brazilianearth.org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16680" y="674280"/>
            <a:ext cx="9979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em você é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omo se apresentar para outra pessoa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"/>
          <p:cNvSpPr/>
          <p:nvPr/>
        </p:nvSpPr>
        <p:spPr>
          <a:xfrm>
            <a:off x="-12600" y="3289320"/>
            <a:ext cx="1299024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Olá pessoal, tudo bem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 sou a Roberta. (Eu) Sou professora de português. (Eu) Sou do Brasil. (Eu) Sou brasileira. (Eu) Sou professora de português. Sou casada. O meu cabelo é preto e crespo. (Eu) Sou mulher e altura mediana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003320" y="2158920"/>
            <a:ext cx="4317840" cy="2476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461960" y="47152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a está ___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1028880" y="6064200"/>
            <a:ext cx="4254480" cy="21272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63760" y="827100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a está ___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7013520" y="2158920"/>
            <a:ext cx="3721320" cy="24782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254000" y="4727880"/>
            <a:ext cx="3639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es está ___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1112400" y="225720"/>
            <a:ext cx="10778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Verbo “Estar” no Present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Indica uma ação ou estado temporário. Exemplos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6934320" y="5648400"/>
            <a:ext cx="3644640" cy="27334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5715000" y="8585280"/>
            <a:ext cx="6730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___  ____ ___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19120" y="291960"/>
            <a:ext cx="1196352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Verbos (Presente)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792360" y="1590840"/>
            <a:ext cx="258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erbo: Se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3707280" y="2744280"/>
            <a:ext cx="2780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</a:t>
            </a:r>
            <a:r>
              <a:rPr b="0" lang="en-US" sz="4200" spc="-1" strike="noStrike">
                <a:solidFill>
                  <a:srgbClr val="86cd4d"/>
                </a:solidFill>
                <a:latin typeface="Chalkboard"/>
                <a:ea typeface="Chalkboard"/>
              </a:rPr>
              <a:t> sou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ocê </a:t>
            </a:r>
            <a:r>
              <a:rPr b="0" lang="en-US" sz="4200" spc="-1" strike="noStrike">
                <a:solidFill>
                  <a:srgbClr val="66b132"/>
                </a:solidFill>
                <a:latin typeface="Chalkboard"/>
                <a:ea typeface="Chalkboard"/>
              </a:rPr>
              <a:t>é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e </a:t>
            </a:r>
            <a:r>
              <a:rPr b="0" lang="en-US" sz="4200" spc="-1" strike="noStrike">
                <a:solidFill>
                  <a:srgbClr val="66b132"/>
                </a:solidFill>
                <a:latin typeface="Chalkboard"/>
                <a:ea typeface="Chalkboard"/>
              </a:rPr>
              <a:t>é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ós </a:t>
            </a:r>
            <a:r>
              <a:rPr b="0" lang="en-US" sz="4200" spc="-1" strike="noStrike">
                <a:solidFill>
                  <a:srgbClr val="86cd4d"/>
                </a:solidFill>
                <a:latin typeface="Chalkboard"/>
                <a:ea typeface="Chalkboard"/>
              </a:rPr>
              <a:t>somo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ocês </a:t>
            </a:r>
            <a:r>
              <a:rPr b="0" lang="en-US" sz="4200" spc="-1" strike="noStrike">
                <a:solidFill>
                  <a:srgbClr val="a3d979"/>
                </a:solidFill>
                <a:latin typeface="Chalkboard"/>
                <a:ea typeface="Chalkboard"/>
              </a:rPr>
              <a:t>são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es </a:t>
            </a:r>
            <a:r>
              <a:rPr b="0" lang="en-US" sz="4200" spc="-1" strike="noStrike">
                <a:solidFill>
                  <a:srgbClr val="86cd4d"/>
                </a:solidFill>
                <a:latin typeface="Chalkboard"/>
                <a:ea typeface="Chalkboard"/>
              </a:rPr>
              <a:t>são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>
            <a:off x="204840" y="3127680"/>
            <a:ext cx="1731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singular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uma pesso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-1995480" y="5048280"/>
            <a:ext cx="6107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plural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duas ou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mais pessoa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"/>
          <p:cNvSpPr/>
          <p:nvPr/>
        </p:nvSpPr>
        <p:spPr>
          <a:xfrm>
            <a:off x="2298600" y="3048120"/>
            <a:ext cx="1270080" cy="1269720"/>
          </a:xfrm>
          <a:prstGeom prst="rightArrow">
            <a:avLst>
              <a:gd name="adj1" fmla="val 32000"/>
              <a:gd name="adj2" fmla="val 44012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/>
          <p:nvPr/>
        </p:nvSpPr>
        <p:spPr>
          <a:xfrm>
            <a:off x="2298600" y="5765760"/>
            <a:ext cx="1270080" cy="1270080"/>
          </a:xfrm>
          <a:prstGeom prst="rightArrow">
            <a:avLst>
              <a:gd name="adj1" fmla="val 32000"/>
              <a:gd name="adj2" fmla="val 440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>
            <a:off x="7245000" y="1989720"/>
            <a:ext cx="45421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xemplos: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 sou alta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ós ____ alto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es ___ alto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ocê é magro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la __ magr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Vocês ___ magr__.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19120" y="291960"/>
            <a:ext cx="1196352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Verbos (Presente do Indicativo)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114640"/>
            <a:ext cx="1299060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(Primeira conjugação)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Todos os verbos terminados em AR seguem o mesma conjugação. Exemplo: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Verbo: Trabalhar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Eu Trabalh</a:t>
            </a:r>
            <a:r>
              <a:rPr b="0" lang="en-US" sz="2400" spc="-1" strike="noStrike">
                <a:solidFill>
                  <a:srgbClr val="ff2712"/>
                </a:solidFill>
                <a:latin typeface="Chalkboard"/>
                <a:ea typeface="Chalkboard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Você Trabalh</a:t>
            </a:r>
            <a:r>
              <a:rPr b="0" lang="en-US" sz="2400" spc="-1" strike="noStrike">
                <a:solidFill>
                  <a:srgbClr val="ff2712"/>
                </a:solidFill>
                <a:latin typeface="Chalkboard"/>
                <a:ea typeface="Chalkboar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Ele(a) Trabalh</a:t>
            </a: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Nós trabalha</a:t>
            </a: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mo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Vocês Trabalh</a:t>
            </a: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Eles(as) Trabalh</a:t>
            </a:r>
            <a:r>
              <a:rPr b="0" lang="en-US" sz="2400" spc="-1" strike="noStrike">
                <a:solidFill>
                  <a:srgbClr val="fe4940"/>
                </a:solidFill>
                <a:latin typeface="Chalkboard"/>
                <a:ea typeface="Chalkboard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447560" y="1765440"/>
            <a:ext cx="1046484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O que você faz no trabalho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2403000" y="3478320"/>
            <a:ext cx="8183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 mando e-mail para os alunos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 vendo produtos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Eu atualizo o site da empresa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"/>
          <p:cNvSpPr/>
          <p:nvPr/>
        </p:nvSpPr>
        <p:spPr>
          <a:xfrm>
            <a:off x="4936320" y="5997960"/>
            <a:ext cx="3115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126aa"/>
                </a:solidFill>
                <a:latin typeface="Chalkboard"/>
                <a:ea typeface="Chalkboard"/>
              </a:rPr>
              <a:t>E você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533160"/>
            <a:ext cx="1046484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Agenda da Aula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6520" y="1765080"/>
            <a:ext cx="10464840" cy="21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presentação Pessoa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djetivo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Verbo Esta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imeira Conjugação dos Verbos Regulares (terminados em AR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"/>
          <p:cNvSpPr/>
          <p:nvPr/>
        </p:nvSpPr>
        <p:spPr>
          <a:xfrm>
            <a:off x="571680" y="5168880"/>
            <a:ext cx="1184904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Conjugar no presente do indicativo os verbos que eles escolherem para falar de coisas que fazem no trabalho, Ser, EStar e Fazer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Capítulos 1, 2 e 3 do livr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Escrever cinco hábitos ou coisas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que você faz com frequência. Exemplo: Eu limpo a casa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"/>
          <p:cNvSpPr/>
          <p:nvPr/>
        </p:nvSpPr>
        <p:spPr>
          <a:xfrm>
            <a:off x="927000" y="4152960"/>
            <a:ext cx="10464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  <a:ea typeface="Chalkboard"/>
              </a:rPr>
              <a:t>Lição de Casa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09400" y="10029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Perguntas?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...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té a próxima semana!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oa noite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